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3BF-6F6B-4638-A3B3-813A0F63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0B80-1AAE-4DEF-9967-AF09933D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BBA-8E60-4AA3-95BA-38DE9B94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D5E-439A-4906-8DC4-BA73D454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E49E-6592-4704-95C6-2D24AF87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554D-BF30-4700-A74F-13670988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7F50-1C62-4754-8EED-49A2C8C6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DD86-1A45-429C-8C5E-1C47874E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0775-B6D8-4F23-93A6-4F38E874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5D9E-AAEA-40BB-BCA4-2307BF44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AF6A-04EC-4825-84FB-FE31AED8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FC7A-FCA5-44CC-8957-1A0134E6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1D0D-B659-49EB-A3C5-41390496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62AE-47D5-4624-8A8C-77AEAD9C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2009-DE5A-4C1C-8A7A-30D7C349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4F9B-E54E-4F82-8027-4B687332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2DD3-DA90-453D-9FC0-C465DE09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E5A-B1C2-40B0-9A69-FEDAD42D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743-80C7-4E66-A109-31790ADC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646-F0C0-4F63-977E-623B9472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07E-7BBF-483E-B6C3-B631E89E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C02-07B6-4AAE-8753-237F512E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D3F-3D32-4897-A6FE-F8EBBC63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290-54B5-4DFE-8CFB-D5BBD93F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6E26-8ED2-4DAA-B1F8-9CD32FC66F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6FEA-6BF4-46DE-BA02-7DFB91C6AD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bs.org/wgbh/nova/genome/dna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s.stedwards.edu/~kswank/dnaBond.jpg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207.207.4.198/pub/flash/24/menu.swf" TargetMode="External"/><Relationship Id="rId2" Type="http://schemas.openxmlformats.org/officeDocument/2006/relationships/hyperlink" Target="http://www.dnai.org/teacher/lesson?c=2,1,18210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NA: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oxyribonucle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Journey into 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457200" y="1371600"/>
            <a:ext cx="4106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62948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DNA Strands indicating Base pairing bond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457200"/>
            <a:ext cx="36432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ackbone of DNA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ckbone of a DNA chain is form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g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hosph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oups of each nucleot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37236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gaff’s Rul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uzzling fact about the relationship between the nucleoti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win Chargaff, an American biochemist, had discovered that the percentages of guanine (G) and cytosine (C) bases are almost equal in any sample of D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me thing is true for thymine (T) and adenine (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servation that [A] = [T] and [G] = [C] became known as Chargaff’s rul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7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Double Helix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53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rancis Cri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James Wats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s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salind Franklin’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-ray evidence to determine that DNA wa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ouble heli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n which 2 strands were wound around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ouble helix looks like a twisted ladder or spiral stairc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62948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984400" y="1957320"/>
            <a:ext cx="3175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 what is RNA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A is a long molecule made up of unit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UCLEOTID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nucleotide is made up of 3 basic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ugar called rib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hosphate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itrogenous (nitrogen-containing)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Nitrogen Ba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4 kinds of nitrogenous bases in R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of the nitrogenous bases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en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uan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elong to a group of compounds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RI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maining two bases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ytos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rac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re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YRIMIDI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bases are different between DNA and RN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r Objectiv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nderstand the Overall Structure of the DNA Mole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emonstrate the variety of codes that can be made with only 4 b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the events of DNA Repl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the events of RNA Transcrip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475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ckbone of R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ckbone of an RNA chain is form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g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hosph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oups of each nucleot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name of the sugar in RN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25336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do we need RNA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 is spe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 needs to stay in th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make an RNA copy of the D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NA leaves the nucleus to find a ribos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s at the riboso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ibosome makes proteins that gives us our tra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362320" y="685800"/>
            <a:ext cx="428616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cells divide each new cell needs a copy of the D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_______ chromosomes in our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plication of DNA happens in which stage of the cell cyc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 phase of Inter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DNA Re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DNA Replication Fl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ssible Models for Repl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428920" y="1857240"/>
            <a:ext cx="42861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48320" y="83772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 replicates through Semi-conservative re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iginal DNA op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DNA strands are added to each half of the original str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23432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NA, RNA, or Both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the sugar deoxyribo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sugar – phosphate backbo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a base of urac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a base of thym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tructure of DNA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 is a long molecule made up of unit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UCLEOTID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nucleotide is made up of 3 basic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5-carbon sugar called deoxyrib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hosphate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itrogenous (nitrogen-containing)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NA, RNA, or Both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double stran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licates through semi-conservative replic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s with a riboso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743200" y="144792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3984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762948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52600" y="-114480"/>
            <a:ext cx="623880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obacco plant expressing a firefly ge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possible to program one species to produce proteins characteristic of another by transplanting D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482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4 Bas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4 kinds of nitrogenous bases in D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of the nitrogenous bases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en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uan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elong to a group of compounds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RI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maining two bases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ytos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ym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re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YRIMIDI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ines have 1 ring in their structure and pyrimidines have two r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2948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15:52:34Z</dcterms:created>
  <dc:creator>System Operations</dc:creator>
  <dc:description/>
  <dc:language>en-US</dc:language>
  <cp:lastModifiedBy>Tera Linn</cp:lastModifiedBy>
  <dcterms:modified xsi:type="dcterms:W3CDTF">2011-11-01T19:29:37Z</dcterms:modified>
  <cp:revision>20</cp:revision>
  <dc:subject/>
  <dc:title>DNA:  </dc:title>
</cp:coreProperties>
</file>